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EBE8-2240-42E2-BE6E-90B2FB83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5BE9-A35D-4662-93CF-A2D17FBD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7DCC-9A5B-4C37-8D7C-0F8A2BC1B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F939-B32B-447F-9434-3FC8A7725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7897-3970-4384-BB42-E68AA8FC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3227-8A19-4E43-A9A4-FDE6492E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BC25-44D8-4DFF-BE30-DF3FE465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F795-B946-4DBB-BC21-9B0E806F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A175-5170-4098-8342-9AD62125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FB81-C370-4868-B6F6-05E703D2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D09C-7493-4E31-81F9-0252C50F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6833-ED8F-4C38-907E-547BED9A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23F9-1C4B-43DC-A670-6B61B8362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-27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an activate prior knowledge and gain background knowledge in order to better comprehend text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335268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 is this excerpt about? (I’m about to put it on the board.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ANNOTATE and RESPO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you read the article, record at LEAST five annota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n, in your RRJ respond to this ques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new idea did you learn today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 new idea did you learn today? </a:t>
            </a:r>
            <a:br>
              <a:rPr sz="2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imination RRJ 8-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new idea I learned today is that 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know this to be true because the text mentioned “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, the text explained “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this idea helped me understand __________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uns, Nouns, 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no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7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7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istopher Colum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iscovered Amer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hips:  Nina, pinta, santa m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iscovered the world was 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er route- spices from 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en of Spain gave him money to 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Portu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istopher Colum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proved that the world was not f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ould fall off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hing, sea monst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believed the Earth was egg-shaped and the top was parad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vered Nor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ats: Nina, pinta, santa m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istopher Colum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know about Christopher Columb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plo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ver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at- 3 boats: Nina, pinta, santa m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ured native Ameri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ed the world was 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jour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questioned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Reading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your reading response journal, tell me all the things you already know about the topic of your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snowboarding, competition, sports, slavery, memory loss, fea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finish with your response, read quietly. I’ll will be conferencing to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or Knowled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-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opic of my book is 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know this because… (2 pieces of Text Evidence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the things I know about _____________ are: 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helped me understand 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 8-30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an activate prior knowledge and gain background knowledge in order to better comprehend text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rite down ALL the words that pop into your head when you hear the word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discrimination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or Knowledge Graphic Organiz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LY, fill in the innermost circle with words you associate with DISCRIM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, talk with your group members and add their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Art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the text as I read out loud.  I am going to show you how I annotate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I read, I write dow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l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-effect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d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7T01:50:51Z</dcterms:created>
  <dc:creator>Administrator</dc:creator>
  <dc:description/>
  <dc:language>en-US</dc:language>
  <cp:lastModifiedBy>Administrator</cp:lastModifiedBy>
  <dcterms:modified xsi:type="dcterms:W3CDTF">2010-08-30T13:13:16Z</dcterms:modified>
  <cp:revision>9</cp:revision>
  <dc:subject/>
  <dc:title>Do Now 8-27 I can activate prior knowledge and gain background knowledge in order to better comprehend text. </dc:title>
</cp:coreProperties>
</file>